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3708-65D1-459A-828A-CE6435A38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575F-D9A5-41EA-87D5-86D0724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D85D3C-6EBE-4BF8-BD9C-2EF4DEC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D20010-2B45-4E35-BDF4-F0AAD917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3DE42-EA1F-49DC-B697-818B1278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DB6435-1375-4673-A4BA-7813DEC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AD957-74E9-4755-B660-C4CB0F0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75E03-19BF-4CF2-B5D5-F5A35A36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5AE2D-51B1-435D-A3B2-F9179F9A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236C7-CE7E-418A-96EE-A6CE4DB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E10980-5907-4588-88D2-6AD4F9843B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3668-3D84-4C92-A2EE-F606F2E9C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076E-C047-4001-B28E-B38410F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D82B-F503-4FE9-9E74-98F94654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6ED98-D9FE-42F6-B027-4A083BDF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DD93-0B51-4587-843F-A4B23E3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78D1-A2F0-42D5-92C1-48777E8A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E156-48DB-4627-BAF2-8920AA61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AB8EE-103B-4754-AAA6-479C0AB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061C-0B86-4080-AA67-8D5B515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8C50-4D3A-44FA-B42F-D000D3F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BB8D-3DE0-42FF-B43D-87C48D6B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9B62-63FF-4ABF-9D26-E9F0D32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0600-4BD0-494C-8112-291EDAE1C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4C0E-9900-4998-99FA-A46C15DE3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F1152F-70FB-4FF7-997E-28434742C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39B84-B8A2-4069-97A6-C738459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A73B1-10B1-4DD1-BB56-A9FAA78D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38D7D-3E15-4733-8C9B-2FBFB25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2D227-D933-4F35-BFB0-52EB3FAC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8CA1CD-D709-47E2-9ED4-BDAC6CDE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2C1D4B-12AA-491B-8DF3-B93232E2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1832D-F45F-4FB8-9E0E-BD34683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0E3F19-022C-4C0D-8574-1755C499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D420C-9E41-4B10-BDD9-6DAAD8D6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A94947-01CE-4F7D-8390-CD854117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D8161-DD1C-44F6-B638-78FC459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113BD-8CBB-41F5-8C1A-05F9C84E7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F4A06-2A0D-4BE3-8F6F-6700DB10D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377A9-7914-4E21-B487-A939221F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B484A-E4C0-49B6-8893-3BA726D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16939-FF73-4576-857D-B32F5BE7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A784D-41BD-436C-AAB8-EAACE49C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7E530-9ADA-4158-BFFA-714EF0CF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681BA-A662-4E5E-A4A6-53FCA23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71EC1-924D-4B80-A54A-615A091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7906B-2EB9-4134-AED5-C1568DA7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0F731-AB0E-49EB-941F-1839D074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30888-0E7C-441D-9855-CA49E3A3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02581-4270-4819-92F9-E4942EFF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08511-764E-4146-8A76-8322CBDAD5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922A6-2B18-466A-AEB8-05301F681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7F8CF-612B-42F1-9374-31EE280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FD60C-B016-42D5-80ED-0DB6F356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33C0C-7756-481E-8032-E47A441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E3AB7-36C2-4EF2-A376-BC1FAD23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B229F-43B3-4ED7-9707-490D012C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F511C-74B2-44C5-ACA8-A8AEEEC7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0AB84-4E9F-45A2-9B49-58C38974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45716-F562-47B2-9128-4427A10B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38FB5-3C96-4815-B1B1-A8CA4CD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60CAF-2BB8-43A4-839C-0F17388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4CCB0-8B96-478E-B281-F3FCAE3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F5782-4ABD-4296-96F3-C7B7B974D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6A005-44C7-45E1-9285-25305E8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F0D38-241D-4DB1-8DF6-E5D9703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C61BB-4CD3-4550-857C-55F3FF1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EABE1-BD37-45EB-95F0-59516192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5ACD-CE17-4ACA-A1FB-DB3D1FF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AA283-BE5A-4744-88BB-813AD8E9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5C37-8FB0-4906-BCE4-A85CC08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A69E9-2A50-4BE4-B281-62C1B0F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C6DFD-FC7E-4793-BA95-B5244D8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395AE-BA15-40E0-979D-15FB4DB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25AFC-EB2E-48E7-A2BA-F3A48C3C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4309C-1CBA-4E68-B086-9CE95F95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FD453-C874-4C07-B24F-856ABA43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51B72-1DAC-4B42-AFE6-8687C961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3E6E-8C77-401C-B88A-3012F55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DBC4-3A05-42BA-9769-01A4FF20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7401-0E13-4A5F-986E-B93E9D8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B99D-C0FC-4BFE-B16E-5DEF084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133EE-C4AB-493D-8D66-4DF71FE9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F1708-FEBC-4FA0-B4D2-240B4BE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26767-309A-493F-BA45-BA96129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5550-CABD-4F13-B4C2-8095031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D2920-7F19-42E1-94A3-A0ECFD3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2E58-5E62-463C-B60F-07D7458A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1BD8E-4E54-40F9-BDA2-CB956E74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36D66-AB00-42B9-849D-128924E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6725-6EC4-4673-A9B2-B883FACB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06685-231E-47B1-ABFB-BBC789C1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393E9-0BF3-4B6D-B627-396BBFF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E70B7-1547-4ACC-8229-E4273B8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7C3D0-CC36-4EE9-AA18-390E532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1223C-53CB-4A5E-BF40-3420394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295CB-6E47-4766-81B5-5613713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D787-A941-4C27-8DBC-780A370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220AC-67DA-42BC-B8C4-6ED0A98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99E6-7FB0-4AF6-AC23-640F459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6A675-C1AA-4EC8-A1CD-3524B9C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BD14B-CD4E-404E-AC53-FA14571D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E02AC-5546-43E8-96E7-443C9897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F6A17-5B4A-4A9C-8A35-7B4B604F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36C84-4B84-456B-951A-873B7DC7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939AD-15A1-4CAC-AD82-C12A2DB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9E367-BE91-43E2-A139-4D6D58B1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67238-85D7-44BA-B001-8A904A6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F00DC-6FA0-427F-BA8A-9353CFE5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CF077-F8E6-4BFC-BAA8-1DD4D8A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89499-7806-46C5-88AD-B84C8DE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692C-26DE-4CF5-8885-3EA8DD2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6DE09-63FE-49FB-9292-19E4E01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94E53-D691-4081-931C-3AF5701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A0C23-EE89-4008-9CE2-F528D789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66647-059C-4455-9FF1-FC069EA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57937-2402-4CB7-AA20-AB2552D9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F4704-3F9A-4EEB-A764-EA554D5C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F2267-D312-41FF-90BA-2E8687E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7D211-0790-4A0B-A599-9818BDB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AF248-EBB1-486C-B662-5D4110C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B1E03-767F-43BE-A62C-FFB56F2C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4295C-9196-40F4-866B-28D9FD9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D0960-9675-45FE-9DA0-D207674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2950E-CC96-449A-98A2-C6A616A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1BDF6-83EE-4148-AF47-702B241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77F3E-014B-46CD-9631-DA4487B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B54E4-7598-400A-A966-5295028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4B511-378F-44F5-BA33-2BD1169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1531B-6DE5-4BFB-A46C-18F73DB1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D3A8D-32BF-4F18-BD19-3E798B97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3DB75-8A13-48BF-BF83-CF707335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2E452C-1316-4842-943B-1925BD55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6A3C5-EB1C-4067-979A-7324CA0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0D8E4-B7AF-4F9C-BE3A-1C93DE8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EE639-87ED-4271-8343-82C5626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4EB42-EE38-41BA-8DAA-1A64701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DE128-24C6-424F-9DA6-21841D49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025AA-59D3-48A0-9DC1-F784FB6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FAB95-63B3-46F2-9C8A-840C1EE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CBADB-39E3-4C81-86EF-E96E524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BAEBC-C860-4E8A-8E11-469A25A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DC090-2ED0-4DE0-B5E4-EA791AD7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B6CD5-067A-4EE5-B05A-C48D2797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18BED-98A6-4688-9A8F-9060ECF3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3859-1E99-42FA-B064-1A6994CB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90284-C8F4-4F91-A93E-E9153A5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50B7C-B941-4467-B46C-1860F68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252D7-4B7E-4885-8170-2B17F85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F7816-3AF1-4C9C-AF8A-9761C307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6FC45-99FE-48F9-B568-51A531A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3D56E-A2FB-4ED0-8AD2-83EBE3D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061E6-F4BF-441C-AA10-8B9C5D3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4644B-378A-4D60-B62E-6BB302D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292AF-C22E-4130-8CB3-8C8B9B7B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1562F-492C-47A9-A680-814A065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42EE-204B-4B4A-8551-476F079D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2D217-1087-403C-BC9B-DCF2277E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3D4FA-1052-4CF3-B6E3-2EE1EE24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90EA1-E85F-44AD-80EF-311FEA2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2AB63-1523-4C4C-A400-EE21DB42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F8156-5345-44DC-860A-A73E6C54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79CB5-4C7E-4BA5-92A5-ED02A578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F6028-E8F8-4E7F-8CE6-84454B31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129DD-EA72-47AA-B231-01E6BAE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A5B9D-B941-4125-9EB6-64B370C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A1328-12C9-43F3-89B1-A630CE2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0BA30-7EFF-483B-8F6F-574A8E37ED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74079-4B2D-46C7-BEBF-6FC1F444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3519A-B8DD-4140-A1C7-C9618952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2239A-C73F-4807-B479-29B24BF7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89D70-8F9F-4E21-9D23-EF79D349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4D786-54C5-4279-9FF0-49C59BB1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9D1BF-CC0A-4614-9E82-4E3EF977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9EF25-18BD-4313-8A8B-55242156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C8E7B-84CF-4A36-992A-50D631F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AA3B6-AE74-495E-8E7A-C0E6025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26653-C96C-4974-82E2-BB503DF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42029-DA11-4F39-A73D-D0D1D6FF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61A2E4-212F-4965-9203-AA9CC10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2066C-5BE2-4293-8256-94E7D35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985F1-C60A-47DD-8A2D-5BE2168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87A63-D92B-4E1F-8587-A566E273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FE0F5-0398-4449-82EC-BE033747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F1A40-CED3-4673-B660-56F05599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EBACC-0785-4B3C-93F7-AA2FD9F2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73F0A-B275-435E-9810-06D0A81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903E8-F603-4D01-82B6-7F74F33F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38FAA-2073-4BEC-A6B1-7AADE59C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268E8-47BC-4BE7-9021-2DFC567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D4D80-1FCE-47F5-90E1-B43FEBE8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401E3-0BED-42E2-B46D-72131A5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22A0D-54DE-48DB-81ED-04B588C9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69F63-3755-4A0C-9C59-44E6D61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0FCAA-25EE-4D9C-9DAE-4E6154FB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3471F-88AF-4F51-9947-0BD9E5B1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72FFC-3FE3-413A-9971-B9C9FE96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18D07-0FAC-4AE9-9E02-688BF4D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AF852-7116-4BE2-B571-C63B9EF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56822-1832-4096-A6C1-A383D21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42930-5C89-49A3-ADFE-D84EA27A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138B9-B3BC-4174-97BA-1C7E663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9752F-7E75-4593-9649-54E1567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EAD50-C711-4866-AB2F-89819CE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9937C-F7DA-4385-9AE4-148AE430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88DBB-70D1-47B7-9012-B9545AD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ABA5C-6043-4E75-8832-81E4849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B0E45-C314-48E9-87DB-3A29274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49E65-45C7-4621-A679-A3F34073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0DF83-E215-40DA-9EFC-07565166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12B75-B9FA-4253-BDF7-0D0B3EE1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A794-691D-42DF-95F8-30728715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846F6-9624-4444-8FE3-7147291F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CAD24-6778-427E-9A38-7AA6EB5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32717-1426-45E3-AB6C-336DF69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E89D3-32C0-4167-BE27-B27787C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A661B-0708-4BAB-9F7A-212476C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AB905-28DD-4BAC-8708-ADEACC6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58628-EC95-45E5-B26E-E1EC401AB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A44C9-1C54-4950-A7E6-D1E4A6F17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057C-A6B0-446A-9C9C-730A2DA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D74C-EA60-419C-9E66-BA81E07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F27C-08F7-48FC-A427-0BEF08D8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8EDF-FDAD-4C29-8F98-A0725C1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2756-60DC-4692-8AF8-4942EC1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3B2F-E257-4CCC-BC6E-EABCAA68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95CAA-4F31-47A8-943C-45C6981E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3669-4B7E-4C04-9BFE-6B98DDE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AC53-7A36-4ACD-A3C8-F3523E9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C4BD-E7F7-455E-BFF6-A2FE6F5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F069-5F99-493B-BEB4-27D30B9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9AF89-9229-490C-91CD-EFF38C242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7EFD3-12CF-4E85-91DC-4912B956D1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FECE-C43B-4065-B68D-1FF3F690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59F10-5657-45E6-9233-8448BEA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585CE-C665-4F33-8587-0B26E84C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7FE18-6F9C-4F34-9E6E-4F7AC9DA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55E3D-9B66-4BAE-AF8D-00966DFD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69F62-8A1E-4B24-98B9-3D1326B3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120D6-5792-43F4-9979-4E20B51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94850-B039-4508-B17A-3154B922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84995-7CB2-45A9-A4DA-A097E4D8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ADBD5-69B1-440D-9382-818240C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F70C3-9F41-4313-8441-F377537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C9F0-29E1-49CF-AD4F-51A5E71F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D5782-A4AC-4AA9-BC1C-14CC0D995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F0732E-43F5-481B-BF6F-FFA932341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5C5318-9FE4-4C4B-9DEF-F601DC2A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1F855-F702-4932-AC3B-E08C659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175A4-D226-41CF-B234-046B95E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DCAA8-5486-4396-932F-C890B0BC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E6228-FB8A-4EA4-BBAC-A1876CCD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3402E-75DC-4805-9D8A-738CE6D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465A8-49FC-4A26-A963-787D3B5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903B78-86B5-45AD-9799-D0A867BB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719A-A15F-4E17-9E64-39F47D60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6F66B-2FF0-4E2D-B63F-B4E0D608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EA099A-D0B3-4A08-B557-5852437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18F94-56DF-4642-AC14-192977AFF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962B-CC72-4FD4-B975-2D7BEA314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9BC4-43DA-4CBD-9D8A-74773002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B9A6-1AAC-46FD-B1BF-0092F6C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CB3E-23E1-4FB0-AEBA-CBD977C5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E341-F430-4575-BB39-6A12EAB8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46A34-C15E-43C9-8E6A-6D52CB01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07EE-FF88-4A1F-A8A4-751876AE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EBC4-C8B3-4FBD-9D86-2A6AE42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4DA72-56E5-4E07-8F47-CDD7F8C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390E-5BB8-4FE3-9383-88D2237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9111-1ED0-4033-8FA3-C4BFD602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BA60-604F-417B-9887-09C3253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83FB-0E8D-45AC-95F6-7C54C1C5B0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F7A58-6E80-49BB-AE7A-0FA1167C8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543F2-5E2E-4583-B267-9362336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B2CFD-1830-40B8-B829-F3464F7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E2748-F239-4A68-AD63-F7EFC5BE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03A91-D193-482B-8DA2-B8A3F05E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67BF-330B-44FA-BB1F-A726AC36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BF226-0007-4215-A05B-6FB6EDB3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921E3-8EF2-4840-B6E1-6FC45A2D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39A78-3E96-460E-9897-5E56B9E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EF747-03B8-4E19-9103-F87F341B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1DA33-89E4-4AF6-AF29-F02BD71F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66191-383A-408B-AA54-D95A0348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CFA73-86BB-4CDE-92FF-449646709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55475C-58FA-41C7-944E-69D7BF0EC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89AEA3-9038-43FF-8C6F-B9BBAF30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59EAC-FCC9-4019-9FFB-D5B5EC0E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8A9-34FF-4450-87F7-A1C35DBC43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9EE-53A0-4A36-82D9-44E8364E17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E4B2-4A32-4BB1-8A28-9CDF691491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F12-FA31-4AA0-8715-634A2AE921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E39-2D90-422A-9BE9-E60DAD7897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D02-96A8-4663-8CAC-98CB02E945B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FEF0-C59C-4C9A-A254-E2013410B5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FAA6-9F15-4032-AFFB-270FD799E1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128-9772-40BE-8B4B-CC9ED6B1B4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E541-28CF-4DBB-93ED-8D19877C5F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5017-8733-4B4A-AA78-36732D52BE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7F2-BB08-4CB8-A9B1-0B0D58A526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24F-64B7-42A3-8257-460B67262D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E70C-5938-402A-95EC-EACFD890E8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EFF-0BB0-48E2-94BF-51E6D55700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6CD9-1318-4684-877D-EC9CCF4C07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2330-1A0C-4495-A8F7-C8FA63B750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9481-3E5B-4AAD-BE35-4986097B55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95ED-9611-4370-A284-5C4C951E41B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8A8E-DC33-4BD1-82EF-7FE5D2F2A1B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8CC3-67D2-4818-BF89-27FFF224AD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1748-A1A9-4C58-AF2A-BFC229E2BF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53FF-9C5C-4A75-98FB-16164A55E8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D98C-6563-48F3-9C70-D995AFF523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5112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大 小 比 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2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0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32"/>
          <p:cNvSpPr/>
          <p:nvPr/>
        </p:nvSpPr>
        <p:spPr>
          <a:xfrm>
            <a:off x="439560" y="11541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比较亿以内数的大小的方法：①数位不相同的两个数，位数多的数就大。②位数相同的两个数，最高位上的数大的那个数就大；最高位相同的，就比较第二位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直到比较出大小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3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六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99"/>
          <p:cNvSpPr/>
          <p:nvPr/>
        </p:nvSpPr>
        <p:spPr>
          <a:xfrm>
            <a:off x="279360" y="617400"/>
            <a:ext cx="85359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下列各数按照从大到小的顺序排列起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 10034500   7899999    11230000    9056789     799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808059     880059      808590      808509       8805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 609970     670099       690079     690790       670990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"/>
          <p:cNvSpPr/>
          <p:nvPr/>
        </p:nvSpPr>
        <p:spPr>
          <a:xfrm>
            <a:off x="725400" y="1965240"/>
            <a:ext cx="64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230000&gt;10034500&gt;9056789&gt;7995000&gt;789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2"/>
          <p:cNvSpPr/>
          <p:nvPr/>
        </p:nvSpPr>
        <p:spPr>
          <a:xfrm>
            <a:off x="752400" y="34020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80580&gt;880059&gt;808590&gt;808509&gt;808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3"/>
          <p:cNvSpPr/>
          <p:nvPr/>
        </p:nvSpPr>
        <p:spPr>
          <a:xfrm>
            <a:off x="728640" y="48132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90790&gt;690079&gt;670990&gt;670099&gt;609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27"/>
          <p:cNvSpPr/>
          <p:nvPr/>
        </p:nvSpPr>
        <p:spPr>
          <a:xfrm>
            <a:off x="152280" y="990720"/>
            <a:ext cx="86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说一说下面卡片上的数各是几位数，最高位是什么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圆角矩形 28"/>
          <p:cNvSpPr/>
          <p:nvPr/>
        </p:nvSpPr>
        <p:spPr>
          <a:xfrm>
            <a:off x="338040" y="2987640"/>
            <a:ext cx="142884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3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圆角矩形 29"/>
          <p:cNvSpPr/>
          <p:nvPr/>
        </p:nvSpPr>
        <p:spPr>
          <a:xfrm>
            <a:off x="2286000" y="2987640"/>
            <a:ext cx="185256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300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圆角矩形 30"/>
          <p:cNvSpPr/>
          <p:nvPr/>
        </p:nvSpPr>
        <p:spPr>
          <a:xfrm>
            <a:off x="4648320" y="298764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76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圆角矩形 31"/>
          <p:cNvSpPr/>
          <p:nvPr/>
        </p:nvSpPr>
        <p:spPr>
          <a:xfrm>
            <a:off x="6781680" y="2987640"/>
            <a:ext cx="2233800" cy="78588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6432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2"/>
          <p:cNvSpPr/>
          <p:nvPr/>
        </p:nvSpPr>
        <p:spPr>
          <a:xfrm>
            <a:off x="33804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3"/>
          <p:cNvSpPr/>
          <p:nvPr/>
        </p:nvSpPr>
        <p:spPr>
          <a:xfrm>
            <a:off x="2481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34"/>
          <p:cNvSpPr/>
          <p:nvPr/>
        </p:nvSpPr>
        <p:spPr>
          <a:xfrm>
            <a:off x="4767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十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5"/>
          <p:cNvSpPr/>
          <p:nvPr/>
        </p:nvSpPr>
        <p:spPr>
          <a:xfrm>
            <a:off x="7053120" y="391644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高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1"/>
          <p:cNvSpPr/>
          <p:nvPr/>
        </p:nvSpPr>
        <p:spPr>
          <a:xfrm>
            <a:off x="1020960" y="1126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椭圆 5"/>
          <p:cNvSpPr/>
          <p:nvPr/>
        </p:nvSpPr>
        <p:spPr>
          <a:xfrm>
            <a:off x="4248000" y="1981080"/>
            <a:ext cx="609840" cy="6001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3257640" y="1986120"/>
            <a:ext cx="2714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89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3"/>
          <p:cNvSpPr/>
          <p:nvPr/>
        </p:nvSpPr>
        <p:spPr>
          <a:xfrm>
            <a:off x="152280" y="1066680"/>
            <a:ext cx="8839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比一比下面各组数的大小，说一说你是怎样比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4"/>
          <p:cNvSpPr/>
          <p:nvPr/>
        </p:nvSpPr>
        <p:spPr>
          <a:xfrm>
            <a:off x="466560" y="199080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35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1247760" y="1986120"/>
            <a:ext cx="609480" cy="59976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9702"/>
          <p:cNvSpPr/>
          <p:nvPr/>
        </p:nvSpPr>
        <p:spPr>
          <a:xfrm>
            <a:off x="434808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"/>
          <p:cNvSpPr/>
          <p:nvPr/>
        </p:nvSpPr>
        <p:spPr>
          <a:xfrm>
            <a:off x="6276960" y="198612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901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5"/>
          <p:cNvSpPr/>
          <p:nvPr/>
        </p:nvSpPr>
        <p:spPr>
          <a:xfrm>
            <a:off x="7267680" y="1986120"/>
            <a:ext cx="609480" cy="59976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29705"/>
          <p:cNvSpPr/>
          <p:nvPr/>
        </p:nvSpPr>
        <p:spPr>
          <a:xfrm>
            <a:off x="132552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29706"/>
          <p:cNvSpPr/>
          <p:nvPr/>
        </p:nvSpPr>
        <p:spPr>
          <a:xfrm>
            <a:off x="7345080" y="1981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29707" descr="图形1"/>
          <p:cNvPicPr/>
          <p:nvPr/>
        </p:nvPicPr>
        <p:blipFill>
          <a:blip r:embed="rId1"/>
          <a:stretch/>
        </p:blipFill>
        <p:spPr>
          <a:xfrm>
            <a:off x="762120" y="3429000"/>
            <a:ext cx="2160360" cy="2575080"/>
          </a:xfrm>
          <a:prstGeom prst="rect">
            <a:avLst/>
          </a:prstGeom>
          <a:ln w="0">
            <a:noFill/>
          </a:ln>
        </p:spPr>
      </p:pic>
      <p:sp>
        <p:nvSpPr>
          <p:cNvPr id="1030" name="文本框 29708"/>
          <p:cNvSpPr/>
          <p:nvPr/>
        </p:nvSpPr>
        <p:spPr>
          <a:xfrm>
            <a:off x="3418560" y="362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简体"/>
              </a:rPr>
              <a:t>你真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圆角矩形标注 29709"/>
          <p:cNvSpPr/>
          <p:nvPr/>
        </p:nvSpPr>
        <p:spPr>
          <a:xfrm>
            <a:off x="3048120" y="3581280"/>
            <a:ext cx="1828800" cy="762120"/>
          </a:xfrm>
          <a:prstGeom prst="wedgeRoundRectCallout">
            <a:avLst>
              <a:gd name="adj1" fmla="val -51564"/>
              <a:gd name="adj2" fmla="val 59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Box 8"/>
          <p:cNvSpPr/>
          <p:nvPr/>
        </p:nvSpPr>
        <p:spPr>
          <a:xfrm>
            <a:off x="285840" y="3429000"/>
            <a:ext cx="885816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亿以内数的大小比较方法与原来所学的万以内数的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比较方法有什么相同之处和不同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5"/>
          <p:cNvSpPr/>
          <p:nvPr/>
        </p:nvSpPr>
        <p:spPr>
          <a:xfrm>
            <a:off x="228600" y="838080"/>
            <a:ext cx="8501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比较下面四组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3500         435000              6030045         6030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76200        875800            904030        904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6"/>
          <p:cNvSpPr/>
          <p:nvPr/>
        </p:nvSpPr>
        <p:spPr>
          <a:xfrm>
            <a:off x="1606680" y="157176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10"/>
          <p:cNvSpPr/>
          <p:nvPr/>
        </p:nvSpPr>
        <p:spPr>
          <a:xfrm>
            <a:off x="1852560" y="2400480"/>
            <a:ext cx="57168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11"/>
          <p:cNvSpPr/>
          <p:nvPr/>
        </p:nvSpPr>
        <p:spPr>
          <a:xfrm>
            <a:off x="5638680" y="2400480"/>
            <a:ext cx="57168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12"/>
          <p:cNvSpPr/>
          <p:nvPr/>
        </p:nvSpPr>
        <p:spPr>
          <a:xfrm>
            <a:off x="5829480" y="1587600"/>
            <a:ext cx="571320" cy="571320"/>
          </a:xfrm>
          <a:prstGeom prst="ellipse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30727"/>
          <p:cNvSpPr/>
          <p:nvPr/>
        </p:nvSpPr>
        <p:spPr>
          <a:xfrm>
            <a:off x="1682640" y="15876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30728"/>
          <p:cNvSpPr/>
          <p:nvPr/>
        </p:nvSpPr>
        <p:spPr>
          <a:xfrm>
            <a:off x="1944720" y="24084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30729"/>
          <p:cNvSpPr/>
          <p:nvPr/>
        </p:nvSpPr>
        <p:spPr>
          <a:xfrm>
            <a:off x="5906880" y="15858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30730"/>
          <p:cNvSpPr/>
          <p:nvPr/>
        </p:nvSpPr>
        <p:spPr>
          <a:xfrm>
            <a:off x="5742000" y="24066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30731"/>
          <p:cNvSpPr/>
          <p:nvPr/>
        </p:nvSpPr>
        <p:spPr>
          <a:xfrm>
            <a:off x="4455000" y="4890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方法相同，只是亿以内数的位数比万以内的位数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组合 2"/>
          <p:cNvGrpSpPr/>
          <p:nvPr/>
        </p:nvGrpSpPr>
        <p:grpSpPr>
          <a:xfrm>
            <a:off x="0" y="101520"/>
            <a:ext cx="5410080" cy="525600"/>
            <a:chOff x="0" y="101520"/>
            <a:chExt cx="5410080" cy="525600"/>
          </a:xfrm>
        </p:grpSpPr>
        <p:pic>
          <p:nvPicPr>
            <p:cNvPr id="104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70360" y="101520"/>
              <a:ext cx="51397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0" y="196560"/>
              <a:ext cx="723960" cy="273960"/>
              <a:chOff x="0" y="196560"/>
              <a:chExt cx="723960" cy="273960"/>
            </a:xfrm>
          </p:grpSpPr>
          <p:sp>
            <p:nvSpPr>
              <p:cNvPr id="1046" name="椭圆 11"/>
              <p:cNvSpPr/>
              <p:nvPr/>
            </p:nvSpPr>
            <p:spPr>
              <a:xfrm rot="16200000">
                <a:off x="283680" y="34848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27864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29"/>
              <p:cNvSpPr/>
              <p:nvPr/>
            </p:nvSpPr>
            <p:spPr>
              <a:xfrm rot="16200000">
                <a:off x="283680" y="212040"/>
                <a:ext cx="10656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320" y="205920"/>
                <a:ext cx="242640" cy="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8908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072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4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45840" cy="6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4" name="组合 3"/>
          <p:cNvGrpSpPr/>
          <p:nvPr/>
        </p:nvGrpSpPr>
        <p:grpSpPr>
          <a:xfrm>
            <a:off x="214200" y="1260360"/>
            <a:ext cx="2571840" cy="2419560"/>
            <a:chOff x="214200" y="1260360"/>
            <a:chExt cx="2571840" cy="2419560"/>
          </a:xfrm>
        </p:grpSpPr>
        <p:pic>
          <p:nvPicPr>
            <p:cNvPr id="1055" name="Picture 8" descr="D:\我的文档-桌面-收藏夹\桌面\美国人.jpg"/>
            <p:cNvPicPr/>
            <p:nvPr/>
          </p:nvPicPr>
          <p:blipFill>
            <a:blip r:embed="rId8"/>
            <a:stretch/>
          </p:blipFill>
          <p:spPr>
            <a:xfrm>
              <a:off x="356760" y="1260360"/>
              <a:ext cx="2187000" cy="17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TextBox 5"/>
            <p:cNvSpPr/>
            <p:nvPr/>
          </p:nvSpPr>
          <p:spPr>
            <a:xfrm>
              <a:off x="214200" y="3108600"/>
              <a:ext cx="2571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美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2116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6"/>
          <p:cNvGrpSpPr/>
          <p:nvPr/>
        </p:nvGrpSpPr>
        <p:grpSpPr>
          <a:xfrm>
            <a:off x="168120" y="3760920"/>
            <a:ext cx="2954520" cy="2130120"/>
            <a:chOff x="168120" y="3760920"/>
            <a:chExt cx="2954520" cy="2130120"/>
          </a:xfrm>
        </p:grpSpPr>
        <p:pic>
          <p:nvPicPr>
            <p:cNvPr id="1058" name="Picture 4" descr="D:\我的文档-桌面-收藏夹\桌面\俄罗斯.jpg"/>
            <p:cNvPicPr/>
            <p:nvPr/>
          </p:nvPicPr>
          <p:blipFill>
            <a:blip r:embed="rId9"/>
            <a:stretch/>
          </p:blipFill>
          <p:spPr>
            <a:xfrm>
              <a:off x="357120" y="3760920"/>
              <a:ext cx="2286360" cy="147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TextBox 8"/>
            <p:cNvSpPr/>
            <p:nvPr/>
          </p:nvSpPr>
          <p:spPr>
            <a:xfrm>
              <a:off x="168120" y="5319720"/>
              <a:ext cx="2954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俄罗斯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2536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9"/>
          <p:cNvGrpSpPr/>
          <p:nvPr/>
        </p:nvGrpSpPr>
        <p:grpSpPr>
          <a:xfrm>
            <a:off x="3454560" y="3708360"/>
            <a:ext cx="2546280" cy="2309760"/>
            <a:chOff x="3454560" y="3708360"/>
            <a:chExt cx="2546280" cy="2309760"/>
          </a:xfrm>
        </p:grpSpPr>
        <p:pic>
          <p:nvPicPr>
            <p:cNvPr id="1061" name="Picture 3" descr="D:\我的文档-桌面-收藏夹\桌面\印度人.jpg"/>
            <p:cNvPicPr/>
            <p:nvPr/>
          </p:nvPicPr>
          <p:blipFill>
            <a:blip r:embed="rId10"/>
            <a:stretch/>
          </p:blipFill>
          <p:spPr>
            <a:xfrm>
              <a:off x="3929400" y="3708360"/>
              <a:ext cx="15966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TextBox 11"/>
            <p:cNvSpPr/>
            <p:nvPr/>
          </p:nvSpPr>
          <p:spPr>
            <a:xfrm>
              <a:off x="3454560" y="5446440"/>
              <a:ext cx="25462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印度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606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12"/>
          <p:cNvGrpSpPr/>
          <p:nvPr/>
        </p:nvGrpSpPr>
        <p:grpSpPr>
          <a:xfrm>
            <a:off x="6518160" y="3708360"/>
            <a:ext cx="2546640" cy="2157480"/>
            <a:chOff x="6518160" y="3708360"/>
            <a:chExt cx="2546640" cy="2157480"/>
          </a:xfrm>
        </p:grpSpPr>
        <p:pic>
          <p:nvPicPr>
            <p:cNvPr id="1064" name="Picture 2" descr="D:\我的文档-桌面-收藏夹\桌面\韩国人.jpg"/>
            <p:cNvPicPr/>
            <p:nvPr/>
          </p:nvPicPr>
          <p:blipFill>
            <a:blip r:embed="rId11"/>
            <a:stretch/>
          </p:blipFill>
          <p:spPr>
            <a:xfrm>
              <a:off x="6778800" y="3708360"/>
              <a:ext cx="178596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TextBox 14"/>
            <p:cNvSpPr/>
            <p:nvPr/>
          </p:nvSpPr>
          <p:spPr>
            <a:xfrm>
              <a:off x="6518160" y="5294520"/>
              <a:ext cx="2546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韩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4185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15"/>
          <p:cNvGrpSpPr/>
          <p:nvPr/>
        </p:nvGrpSpPr>
        <p:grpSpPr>
          <a:xfrm>
            <a:off x="3500280" y="1157400"/>
            <a:ext cx="2571840" cy="2506680"/>
            <a:chOff x="3500280" y="1157400"/>
            <a:chExt cx="2571840" cy="2506680"/>
          </a:xfrm>
        </p:grpSpPr>
        <p:sp>
          <p:nvSpPr>
            <p:cNvPr id="1067" name="TextBox 16"/>
            <p:cNvSpPr/>
            <p:nvPr/>
          </p:nvSpPr>
          <p:spPr>
            <a:xfrm>
              <a:off x="3500280" y="3093120"/>
              <a:ext cx="257184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日本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3658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8" name="Picture 6" descr="D:\我的文档-桌面-收藏夹\桌面\日本人.jpg"/>
            <p:cNvPicPr/>
            <p:nvPr/>
          </p:nvPicPr>
          <p:blipFill>
            <a:blip r:embed="rId12"/>
            <a:stretch/>
          </p:blipFill>
          <p:spPr>
            <a:xfrm>
              <a:off x="3785760" y="1157400"/>
              <a:ext cx="1643040" cy="179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9" name="TextBox 21"/>
          <p:cNvSpPr/>
          <p:nvPr/>
        </p:nvSpPr>
        <p:spPr>
          <a:xfrm>
            <a:off x="374760" y="5865840"/>
            <a:ext cx="7929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你会比较每两个国家到我国旅游的人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1"/>
          <p:cNvSpPr/>
          <p:nvPr/>
        </p:nvSpPr>
        <p:spPr>
          <a:xfrm>
            <a:off x="2803320" y="1126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情景导入，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31762"/>
          <p:cNvGrpSpPr/>
          <p:nvPr/>
        </p:nvGrpSpPr>
        <p:grpSpPr>
          <a:xfrm>
            <a:off x="6572160" y="1163520"/>
            <a:ext cx="2571840" cy="2424240"/>
            <a:chOff x="6572160" y="1163520"/>
            <a:chExt cx="2571840" cy="2424240"/>
          </a:xfrm>
        </p:grpSpPr>
        <p:sp>
          <p:nvSpPr>
            <p:cNvPr id="1072" name="TextBox 19"/>
            <p:cNvSpPr/>
            <p:nvPr/>
          </p:nvSpPr>
          <p:spPr>
            <a:xfrm>
              <a:off x="6572160" y="3016080"/>
              <a:ext cx="2571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泰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:608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3" name="图片 31764" descr="图形1"/>
            <p:cNvPicPr/>
            <p:nvPr/>
          </p:nvPicPr>
          <p:blipFill>
            <a:blip r:embed="rId13"/>
            <a:stretch/>
          </p:blipFill>
          <p:spPr>
            <a:xfrm>
              <a:off x="6781680" y="1163520"/>
              <a:ext cx="1828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2"/>
          <p:cNvSpPr/>
          <p:nvPr/>
        </p:nvSpPr>
        <p:spPr>
          <a:xfrm>
            <a:off x="1003320" y="685800"/>
            <a:ext cx="77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几个国家到我国旅游的人数。（单位：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1"/>
          <p:cNvGrpSpPr/>
          <p:nvPr/>
        </p:nvGrpSpPr>
        <p:grpSpPr>
          <a:xfrm>
            <a:off x="279360" y="826920"/>
            <a:ext cx="1883880" cy="459720"/>
            <a:chOff x="279360" y="826920"/>
            <a:chExt cx="1883880" cy="459720"/>
          </a:xfrm>
        </p:grpSpPr>
        <p:sp>
          <p:nvSpPr>
            <p:cNvPr id="1077" name="TextBox 3"/>
            <p:cNvSpPr/>
            <p:nvPr/>
          </p:nvSpPr>
          <p:spPr>
            <a:xfrm>
              <a:off x="383760" y="82692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缺角矩形 37"/>
            <p:cNvSpPr/>
            <p:nvPr/>
          </p:nvSpPr>
          <p:spPr>
            <a:xfrm>
              <a:off x="279360" y="94752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文本框 3"/>
          <p:cNvSpPr/>
          <p:nvPr/>
        </p:nvSpPr>
        <p:spPr>
          <a:xfrm>
            <a:off x="361800" y="1254240"/>
            <a:ext cx="85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题中给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国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到我国旅游的人数情况，要比较每个国家到我国旅游的人数，就是比较每两个数的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6"/>
          <p:cNvGrpSpPr/>
          <p:nvPr/>
        </p:nvGrpSpPr>
        <p:grpSpPr>
          <a:xfrm>
            <a:off x="260280" y="2530440"/>
            <a:ext cx="8530920" cy="1189080"/>
            <a:chOff x="260280" y="2530440"/>
            <a:chExt cx="8530920" cy="1189080"/>
          </a:xfrm>
        </p:grpSpPr>
        <p:grpSp>
          <p:nvGrpSpPr>
            <p:cNvPr id="1081" name="组合 38"/>
            <p:cNvGrpSpPr/>
            <p:nvPr/>
          </p:nvGrpSpPr>
          <p:grpSpPr>
            <a:xfrm>
              <a:off x="260280" y="2530440"/>
              <a:ext cx="2147760" cy="459720"/>
              <a:chOff x="260280" y="2530440"/>
              <a:chExt cx="2147760" cy="459720"/>
            </a:xfrm>
          </p:grpSpPr>
          <p:sp>
            <p:nvSpPr>
              <p:cNvPr id="1082" name="TextBox 3"/>
              <p:cNvSpPr/>
              <p:nvPr/>
            </p:nvSpPr>
            <p:spPr>
              <a:xfrm>
                <a:off x="364680" y="2530440"/>
                <a:ext cx="2043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缺角矩形 40"/>
              <p:cNvSpPr/>
              <p:nvPr/>
            </p:nvSpPr>
            <p:spPr>
              <a:xfrm>
                <a:off x="260280" y="26510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4" name="文本框 4"/>
            <p:cNvSpPr/>
            <p:nvPr/>
          </p:nvSpPr>
          <p:spPr>
            <a:xfrm>
              <a:off x="365400" y="3076920"/>
              <a:ext cx="84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比较两个数的大小，首先要确定比较的这两个数各是几位数，位数越多，这个数就越大。如果两个数位数相同，就比较最高位上的数字，最高位上的数大的那个数就大；如果最高位上的数也相同，就依次比较下一个数位上的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组合 33795"/>
          <p:cNvGrpSpPr/>
          <p:nvPr/>
        </p:nvGrpSpPr>
        <p:grpSpPr>
          <a:xfrm>
            <a:off x="682560" y="1176480"/>
            <a:ext cx="7489800" cy="1908000"/>
            <a:chOff x="682560" y="1176480"/>
            <a:chExt cx="7489800" cy="1908000"/>
          </a:xfrm>
        </p:grpSpPr>
        <p:sp>
          <p:nvSpPr>
            <p:cNvPr id="1086" name="矩形 33796"/>
            <p:cNvSpPr/>
            <p:nvPr/>
          </p:nvSpPr>
          <p:spPr>
            <a:xfrm>
              <a:off x="682560" y="1176480"/>
              <a:ext cx="7489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较下面每组中两个数的大小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组合 33797"/>
            <p:cNvGrpSpPr/>
            <p:nvPr/>
          </p:nvGrpSpPr>
          <p:grpSpPr>
            <a:xfrm>
              <a:off x="1150920" y="1922400"/>
              <a:ext cx="6805440" cy="1162080"/>
              <a:chOff x="1150920" y="1922400"/>
              <a:chExt cx="6805440" cy="1162080"/>
            </a:xfrm>
          </p:grpSpPr>
          <p:sp>
            <p:nvSpPr>
              <p:cNvPr id="1088" name="矩形 33798"/>
              <p:cNvSpPr/>
              <p:nvPr/>
            </p:nvSpPr>
            <p:spPr>
              <a:xfrm>
                <a:off x="1150920" y="1922400"/>
                <a:ext cx="6805440" cy="11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2504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3600              50140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31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906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890              620300</a:t>
                </a:r>
                <a:r>
                  <a:rPr b="1" lang="en-US" sz="2400" spc="-1" strike="noStrike">
                    <a:solidFill>
                      <a:srgbClr val="1c1c1c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07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33799"/>
              <p:cNvSpPr/>
              <p:nvPr/>
            </p:nvSpPr>
            <p:spPr>
              <a:xfrm>
                <a:off x="2152800" y="1980720"/>
                <a:ext cx="431640" cy="4316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椭圆 33800"/>
              <p:cNvSpPr/>
              <p:nvPr/>
            </p:nvSpPr>
            <p:spPr>
              <a:xfrm>
                <a:off x="2151000" y="2619000"/>
                <a:ext cx="432000" cy="431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椭圆 33801"/>
              <p:cNvSpPr/>
              <p:nvPr/>
            </p:nvSpPr>
            <p:spPr>
              <a:xfrm>
                <a:off x="5702400" y="2619000"/>
                <a:ext cx="431640" cy="431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椭圆 33802"/>
              <p:cNvSpPr/>
              <p:nvPr/>
            </p:nvSpPr>
            <p:spPr>
              <a:xfrm>
                <a:off x="5699160" y="1977480"/>
                <a:ext cx="431640" cy="4316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文本框 33803"/>
          <p:cNvSpPr/>
          <p:nvPr/>
        </p:nvSpPr>
        <p:spPr>
          <a:xfrm>
            <a:off x="2135160" y="19080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3804"/>
          <p:cNvSpPr/>
          <p:nvPr/>
        </p:nvSpPr>
        <p:spPr>
          <a:xfrm>
            <a:off x="5716440" y="190800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33805"/>
          <p:cNvSpPr/>
          <p:nvPr/>
        </p:nvSpPr>
        <p:spPr>
          <a:xfrm>
            <a:off x="5715000" y="257796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33806"/>
          <p:cNvSpPr/>
          <p:nvPr/>
        </p:nvSpPr>
        <p:spPr>
          <a:xfrm>
            <a:off x="2187720" y="257796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"/>
          <p:cNvSpPr/>
          <p:nvPr/>
        </p:nvSpPr>
        <p:spPr>
          <a:xfrm>
            <a:off x="1008000" y="4703760"/>
            <a:ext cx="6276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000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05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50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500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33808"/>
          <p:cNvGrpSpPr/>
          <p:nvPr/>
        </p:nvGrpSpPr>
        <p:grpSpPr>
          <a:xfrm>
            <a:off x="655560" y="3484440"/>
            <a:ext cx="7345440" cy="1200960"/>
            <a:chOff x="655560" y="3484440"/>
            <a:chExt cx="7345440" cy="1200960"/>
          </a:xfrm>
        </p:grpSpPr>
        <p:sp>
          <p:nvSpPr>
            <p:cNvPr id="1099" name="矩形 33809"/>
            <p:cNvSpPr/>
            <p:nvPr/>
          </p:nvSpPr>
          <p:spPr>
            <a:xfrm>
              <a:off x="655560" y="3484440"/>
              <a:ext cx="7345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按照从小到大的顺序排列下面各数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矩形 33810"/>
            <p:cNvSpPr/>
            <p:nvPr/>
          </p:nvSpPr>
          <p:spPr>
            <a:xfrm>
              <a:off x="1090440" y="4152600"/>
              <a:ext cx="663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500       500500       55000       40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Rectangle 64"/>
          <p:cNvSpPr/>
          <p:nvPr/>
        </p:nvSpPr>
        <p:spPr>
          <a:xfrm>
            <a:off x="441360" y="174600"/>
            <a:ext cx="273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201600" y="1447920"/>
            <a:ext cx="497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问题：如何比较多个数的大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2"/>
          <p:cNvSpPr/>
          <p:nvPr/>
        </p:nvSpPr>
        <p:spPr>
          <a:xfrm>
            <a:off x="76320" y="2058840"/>
            <a:ext cx="868680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先按照位数的多少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位数相同的多个数，先比较其中两个数的大小，再用较大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与第三个数比大小，用这种方法找到这几个数中最大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再用较小数与第三个数比大小，用这种方法找到这几个数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最小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35845"/>
          <p:cNvSpPr/>
          <p:nvPr/>
        </p:nvSpPr>
        <p:spPr>
          <a:xfrm>
            <a:off x="307800" y="41940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8965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00          208808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060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201           30500000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1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7" name=""/>
          <p:cNvSpPr txBox="1"/>
          <p:nvPr/>
        </p:nvSpPr>
        <p:spPr>
          <a:xfrm>
            <a:off x="383760" y="768240"/>
            <a:ext cx="762012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下面的数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20050   432500   4230005   432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1"/>
          <p:cNvSpPr/>
          <p:nvPr/>
        </p:nvSpPr>
        <p:spPr>
          <a:xfrm>
            <a:off x="1618920" y="12384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四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35843"/>
          <p:cNvSpPr/>
          <p:nvPr/>
        </p:nvSpPr>
        <p:spPr>
          <a:xfrm>
            <a:off x="691920" y="2317680"/>
            <a:ext cx="6944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32500 &lt; 4230005 &lt; 4320005 &lt; 432005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35844"/>
          <p:cNvSpPr/>
          <p:nvPr/>
        </p:nvSpPr>
        <p:spPr>
          <a:xfrm>
            <a:off x="6404040" y="53974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35846"/>
          <p:cNvSpPr/>
          <p:nvPr/>
        </p:nvSpPr>
        <p:spPr>
          <a:xfrm>
            <a:off x="2762640" y="361332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比较下面每组中两个数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文本框 35847"/>
          <p:cNvSpPr/>
          <p:nvPr/>
        </p:nvSpPr>
        <p:spPr>
          <a:xfrm>
            <a:off x="2138040" y="4483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35848"/>
          <p:cNvSpPr/>
          <p:nvPr/>
        </p:nvSpPr>
        <p:spPr>
          <a:xfrm>
            <a:off x="6229440" y="44830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文本框 35849"/>
          <p:cNvSpPr/>
          <p:nvPr/>
        </p:nvSpPr>
        <p:spPr>
          <a:xfrm>
            <a:off x="2138040" y="5397480"/>
            <a:ext cx="40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流程图: 联系 35850"/>
          <p:cNvSpPr/>
          <p:nvPr/>
        </p:nvSpPr>
        <p:spPr>
          <a:xfrm>
            <a:off x="2060640" y="4498920"/>
            <a:ext cx="53316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流程图: 联系 35851"/>
          <p:cNvSpPr/>
          <p:nvPr/>
        </p:nvSpPr>
        <p:spPr>
          <a:xfrm>
            <a:off x="6099120" y="4483080"/>
            <a:ext cx="53352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流程图: 联系 35852"/>
          <p:cNvSpPr/>
          <p:nvPr/>
        </p:nvSpPr>
        <p:spPr>
          <a:xfrm>
            <a:off x="6327720" y="5397480"/>
            <a:ext cx="53352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流程图: 联系 35853"/>
          <p:cNvSpPr/>
          <p:nvPr/>
        </p:nvSpPr>
        <p:spPr>
          <a:xfrm>
            <a:off x="2060640" y="5397480"/>
            <a:ext cx="533160" cy="533520"/>
          </a:xfrm>
          <a:prstGeom prst="flowChartConnector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49:44Z</dcterms:modified>
  <cp:revision>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